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6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7.jpeg" ContentType="image/jpeg"/>
  <Override PartName="/ppt/media/image13.png" ContentType="image/png"/>
  <Override PartName="/ppt/media/image36.png" ContentType="image/png"/>
  <Override PartName="/ppt/media/image6.png" ContentType="image/png"/>
  <Override PartName="/ppt/media/image8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0.jpeg" ContentType="image/jpe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734F-8F40-4E1D-A3FC-5442EC49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E65-AB7B-4950-B012-AA1A1E0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776-317A-4A88-8FF7-6228ED2C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EAC-5CAD-473E-A84A-C124BFB6C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449F-E812-47CC-939C-D83EBEC9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77C-8953-4F1B-898E-D5C1426B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DBB-FCA8-497B-9FA9-3264BEE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491B-9FA1-4611-87F7-9E3BCEA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8E8-3DDF-4860-8E5A-C6531EB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DCBC-8BC1-4734-95C0-8B1FFC65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B9B-585E-4AD2-92EC-E90E3170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F9A-4551-4A5A-8B43-3321B69D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46E0-28CD-4E89-A3A9-B47E8B30C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0000"/>
                </a:solidFill>
                <a:latin typeface="Arial"/>
              </a:rPr>
              <a:t>Поколения компьютеро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Мэйнфреймы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B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большие универсальные компью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64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BM/36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B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эш-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йерная обработк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 систем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/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байт = 8 бит (а не 4 или 6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ение врем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70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BM/3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BM/3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"/>
          <p:cNvPicPr/>
          <p:nvPr/>
        </p:nvPicPr>
        <p:blipFill>
          <a:blip r:embed="rId2"/>
          <a:stretch/>
        </p:blipFill>
        <p:spPr>
          <a:xfrm>
            <a:off x="5435640" y="1484280"/>
            <a:ext cx="2881440" cy="2013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4932360" y="4221000"/>
            <a:ext cx="1515960" cy="2021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6877080" y="3716280"/>
            <a:ext cx="1852560" cy="194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9"/>
          <p:cNvSpPr/>
          <p:nvPr/>
        </p:nvSpPr>
        <p:spPr>
          <a:xfrm>
            <a:off x="4932360" y="616572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877080" y="573408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Компьютеры ЕС ЭВМ (СССР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71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С-1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 тыс. о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256 К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77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С-10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лн. о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8 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84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ЕС-1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,5 млн. о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16 М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2"/>
          <a:stretch/>
        </p:blipFill>
        <p:spPr>
          <a:xfrm>
            <a:off x="3908520" y="1081080"/>
            <a:ext cx="4268520" cy="2911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es501700"/>
          <p:cNvPicPr/>
          <p:nvPr/>
        </p:nvPicPr>
        <p:blipFill>
          <a:blip r:embed="rId3"/>
          <a:stretch/>
        </p:blipFill>
        <p:spPr>
          <a:xfrm>
            <a:off x="3851280" y="4149720"/>
            <a:ext cx="2598840" cy="1920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es703800"/>
          <p:cNvPicPr/>
          <p:nvPr/>
        </p:nvPicPr>
        <p:blipFill>
          <a:blip r:embed="rId4"/>
          <a:stretch/>
        </p:blipFill>
        <p:spPr>
          <a:xfrm>
            <a:off x="6804000" y="4005360"/>
            <a:ext cx="1930320" cy="18381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3487680" y="6135840"/>
            <a:ext cx="26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гнитные 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6804000" y="5877000"/>
            <a:ext cx="19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Миникомпьют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ия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D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ая 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ще программ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ческий эк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М ЭВ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л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шин (ССС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 3 млн. о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до 5 М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"/>
          <p:cNvPicPr/>
          <p:nvPr/>
        </p:nvPicPr>
        <p:blipFill>
          <a:blip r:embed="rId2"/>
          <a:stretch/>
        </p:blipFill>
        <p:spPr>
          <a:xfrm>
            <a:off x="5148360" y="907920"/>
            <a:ext cx="3547800" cy="230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3"/>
          <a:stretch/>
        </p:blipFill>
        <p:spPr>
          <a:xfrm>
            <a:off x="5076720" y="3645000"/>
            <a:ext cx="3537000" cy="2438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V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коление (с 1980 по …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мпьютеры на 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больших и сверхбольших</a:t>
            </a:r>
            <a:br>
              <a:rPr sz="2100"/>
            </a:b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интегральных схемах (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БИС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СБИС</a:t>
            </a: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суперкомпьюте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персональны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компьюте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явление пользователей-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непрофессионало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необходимость «дружественного» интерфейс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1 млр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операций в секун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перативная памяти – до нескольких 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гигабай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многопроцессорные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систем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компьютерные 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се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мультимеди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графика, анимация, звук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6732720" y="1125360"/>
            <a:ext cx="1465200" cy="1151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уперкомпьюте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2700360" y="620640"/>
            <a:ext cx="4167000" cy="3400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2835360" cy="1892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Эльбрус -компьютер Вооруженных сил РФ"/>
          <p:cNvPicPr/>
          <p:nvPr/>
        </p:nvPicPr>
        <p:blipFill>
          <a:blip r:embed="rId4"/>
          <a:stretch/>
        </p:blipFill>
        <p:spPr>
          <a:xfrm>
            <a:off x="5435640" y="4076640"/>
            <a:ext cx="1952640" cy="2502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Микропроцессор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71.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Intel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 400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тн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50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 тыс. операций в секунд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974. </a:t>
            </a: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Intel 80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тные д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ение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586240" cy="197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3"/>
          <a:stretch/>
        </p:blipFill>
        <p:spPr>
          <a:xfrm>
            <a:off x="5003640" y="3789360"/>
            <a:ext cx="3602160" cy="1387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366840" y="981000"/>
            <a:ext cx="618624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74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Альтаир-880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Э. Роберт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т для сбо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l 80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2 М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256 бай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75.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Б. Гейт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П. Аллен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транслятор язык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Альтаир-Бейс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"/>
          <p:cNvPicPr/>
          <p:nvPr/>
        </p:nvPicPr>
        <p:blipFill>
          <a:blip r:embed="rId2"/>
          <a:stretch/>
        </p:blipFill>
        <p:spPr>
          <a:xfrm>
            <a:off x="5175360" y="3978360"/>
            <a:ext cx="2360520" cy="2468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4724280" y="1542960"/>
            <a:ext cx="3103560" cy="20671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Первый микрокомпью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298440" y="1103400"/>
            <a:ext cx="560700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3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ple-IIe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мять 128 К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дисковода 5,25 дюйма с гибкими д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83. 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isa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компьютер, управляемый мыш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984. «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pple-IIc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ативный компью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дкокристаллический дисп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2"/>
          <a:stretch/>
        </p:blipFill>
        <p:spPr>
          <a:xfrm>
            <a:off x="5622840" y="984240"/>
            <a:ext cx="2982960" cy="3149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/>
          <a:stretch/>
        </p:blipFill>
        <p:spPr>
          <a:xfrm>
            <a:off x="4913280" y="2367000"/>
            <a:ext cx="3640320" cy="3639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4"/>
          <a:stretch/>
        </p:blipFill>
        <p:spPr>
          <a:xfrm>
            <a:off x="5203800" y="3767040"/>
            <a:ext cx="3328920" cy="24274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8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омпьютеры 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A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500" fill="hold"/>
                                        <p:tgtEl>
                                          <p:spTgt spid="124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8.02683E-007 L 0.05486 -0.07796 E">
                                      <p:cBhvr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70000" y="7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06037E-006 L 0.0632 -0.09715 E">
                                      <p:cBhvr>
                                        <p:cTn id="264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1"/>
          <p:cNvSpPr/>
          <p:nvPr/>
        </p:nvSpPr>
        <p:spPr>
          <a:xfrm>
            <a:off x="5227560" y="1162080"/>
            <a:ext cx="37544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Мони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Материнская пл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Процесс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ОЗ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Карты расшир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Блок пит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. Дисков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D, DV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нчест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. Клавиату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0. Мыш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"/>
          <p:cNvPicPr/>
          <p:nvPr/>
        </p:nvPicPr>
        <p:blipFill>
          <a:blip r:embed="rId2"/>
          <a:stretch/>
        </p:blipFill>
        <p:spPr>
          <a:xfrm>
            <a:off x="374760" y="1138320"/>
            <a:ext cx="4325760" cy="464976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858960" y="1376280"/>
            <a:ext cx="541080" cy="298440"/>
          </a:xfrm>
          <a:prstGeom prst="rightArrow">
            <a:avLst>
              <a:gd name="adj1" fmla="val 50000"/>
              <a:gd name="adj2" fmla="val 453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 flipH="1">
            <a:off x="2520360" y="1893960"/>
            <a:ext cx="541080" cy="298440"/>
          </a:xfrm>
          <a:prstGeom prst="rightArrow">
            <a:avLst>
              <a:gd name="adj1" fmla="val 50000"/>
              <a:gd name="adj2" fmla="val 453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 flipH="1" rot="18833400">
            <a:off x="4484880" y="4307400"/>
            <a:ext cx="541440" cy="298440"/>
          </a:xfrm>
          <a:prstGeom prst="rightArrow">
            <a:avLst>
              <a:gd name="adj1" fmla="val 50000"/>
              <a:gd name="adj2" fmla="val 453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18833400">
            <a:off x="3701880" y="2688480"/>
            <a:ext cx="541080" cy="298440"/>
          </a:xfrm>
          <a:prstGeom prst="rightArrow">
            <a:avLst>
              <a:gd name="adj1" fmla="val 50000"/>
              <a:gd name="adj2" fmla="val 453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2853000">
            <a:off x="3736800" y="5399640"/>
            <a:ext cx="541440" cy="298800"/>
          </a:xfrm>
          <a:prstGeom prst="rightArrow">
            <a:avLst>
              <a:gd name="adj1" fmla="val 50000"/>
              <a:gd name="adj2" fmla="val 4530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8636400">
            <a:off x="1696680" y="5046120"/>
            <a:ext cx="541440" cy="298440"/>
          </a:xfrm>
          <a:prstGeom prst="rightArrow">
            <a:avLst>
              <a:gd name="adj1" fmla="val 50000"/>
              <a:gd name="adj2" fmla="val 453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flipH="1" rot="8636400">
            <a:off x="1431360" y="4296600"/>
            <a:ext cx="541080" cy="298440"/>
          </a:xfrm>
          <a:prstGeom prst="rightArrow">
            <a:avLst>
              <a:gd name="adj1" fmla="val 50000"/>
              <a:gd name="adj2" fmla="val 453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1663400">
            <a:off x="1210680" y="1848960"/>
            <a:ext cx="541080" cy="298440"/>
          </a:xfrm>
          <a:prstGeom prst="rightArrow">
            <a:avLst>
              <a:gd name="adj1" fmla="val 50000"/>
              <a:gd name="adj2" fmla="val 4532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 flipH="1" rot="11663400">
            <a:off x="351360" y="2387160"/>
            <a:ext cx="541440" cy="298440"/>
          </a:xfrm>
          <a:prstGeom prst="rightArrow">
            <a:avLst>
              <a:gd name="adj1" fmla="val 50000"/>
              <a:gd name="adj2" fmla="val 453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 flipH="1" rot="7672200">
            <a:off x="142560" y="4072680"/>
            <a:ext cx="541440" cy="298440"/>
          </a:xfrm>
          <a:prstGeom prst="rightArrow">
            <a:avLst>
              <a:gd name="adj1" fmla="val 50000"/>
              <a:gd name="adj2" fmla="val 453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омпьютеры IBM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3"/>
          <p:cNvSpPr/>
          <p:nvPr/>
        </p:nvSpPr>
        <p:spPr>
          <a:xfrm>
            <a:off x="395280" y="1157400"/>
            <a:ext cx="874872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создание суперкомпьютера с функциями искусственного интелл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параллельных вычис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пределенные выч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лосовое общение с компью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60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епенная замена программных средств на аппар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34880" y="14112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V поколение (проект 1980-х, Япо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  <a:hlinkClick r:id="rId2" action="ppaction://hlinksldjump"/>
              </a:rPr>
              <a:t>Первое покол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  <a:hlinkClick r:id="rId3" action="ppaction://hlinksldjump"/>
              </a:rPr>
              <a:t>Второе покол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  <a:hlinkClick r:id="rId4" action="ppaction://hlinksldjump"/>
              </a:rPr>
              <a:t>Третье покол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  <a:hlinkClick r:id="rId5" action="ppaction://hlinksldjump"/>
              </a:rPr>
              <a:t>Четвертое покол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ff"/>
                </a:solidFill>
                <a:uFillTx/>
                <a:latin typeface="Arial"/>
                <a:hlinkClick r:id="rId6" action="ppaction://hlinksldjump"/>
              </a:rPr>
              <a:t>Пятое поколение компьюте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коления компьюте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945 – 19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о-вакуумные лам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 – 1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зис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5 – 19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ьные микросх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 1980 п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ие и сверхбольш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ьные схемы (БИС и СБИ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"/>
          <p:cNvPicPr/>
          <p:nvPr/>
        </p:nvPicPr>
        <p:blipFill>
          <a:blip r:embed="rId2"/>
          <a:stretch/>
        </p:blipFill>
        <p:spPr>
          <a:xfrm>
            <a:off x="6659640" y="83664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7596360" y="907920"/>
            <a:ext cx="660240" cy="1575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4"/>
          <a:stretch/>
        </p:blipFill>
        <p:spPr>
          <a:xfrm>
            <a:off x="4211640" y="2060640"/>
            <a:ext cx="1116000" cy="155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5"/>
          <a:stretch/>
        </p:blipFill>
        <p:spPr>
          <a:xfrm>
            <a:off x="5867280" y="3284640"/>
            <a:ext cx="1973520" cy="120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6"/>
          <a:stretch/>
        </p:blipFill>
        <p:spPr>
          <a:xfrm>
            <a:off x="7236000" y="4581360"/>
            <a:ext cx="1647720" cy="1293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коление (1945-1955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электронных ламп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ыстродействие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-20 тыс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пераций в секу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ждая машина имеет сво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т опер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од и вывод: перфолент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фокарты, магнитны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8580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LAMP.JPG (9694 bytes)"/>
          <p:cNvPicPr/>
          <p:nvPr/>
        </p:nvPicPr>
        <p:blipFill>
          <a:blip r:embed="rId3"/>
          <a:stretch/>
        </p:blipFill>
        <p:spPr>
          <a:xfrm>
            <a:off x="3348000" y="1484280"/>
            <a:ext cx="305748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"/>
          <p:cNvPicPr/>
          <p:nvPr/>
        </p:nvPicPr>
        <p:blipFill>
          <a:blip r:embed="rId4"/>
          <a:stretch/>
        </p:blipFill>
        <p:spPr>
          <a:xfrm>
            <a:off x="5629320" y="4548240"/>
            <a:ext cx="3097080" cy="198576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ЭНИАК (1946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lectronic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umerical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ntegrator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omput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ж. Моуч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. Экк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ый компьютер общего назначения на электронных ламп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ина 26 м, вес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он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/5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к, деление –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3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сятичная система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-разрядные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8"/>
          <p:cNvGrpSpPr/>
          <p:nvPr/>
        </p:nvGrpSpPr>
        <p:grpSpPr>
          <a:xfrm>
            <a:off x="6300720" y="620640"/>
            <a:ext cx="2231640" cy="1402920"/>
            <a:chOff x="6300720" y="620640"/>
            <a:chExt cx="2231640" cy="1402920"/>
          </a:xfrm>
        </p:grpSpPr>
        <p:pic>
          <p:nvPicPr>
            <p:cNvPr id="60" name="Picture 6" descr="Mauchly"/>
            <p:cNvPicPr/>
            <p:nvPr/>
          </p:nvPicPr>
          <p:blipFill>
            <a:blip r:embed="rId2"/>
            <a:stretch/>
          </p:blipFill>
          <p:spPr>
            <a:xfrm>
              <a:off x="6300720" y="620640"/>
              <a:ext cx="1187280" cy="140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7" descr="Eckert"/>
            <p:cNvPicPr/>
            <p:nvPr/>
          </p:nvPicPr>
          <p:blipFill>
            <a:blip r:embed="rId3"/>
            <a:stretch/>
          </p:blipFill>
          <p:spPr>
            <a:xfrm>
              <a:off x="7513200" y="620640"/>
              <a:ext cx="1019160" cy="1402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Picture 14" descr=""/>
          <p:cNvPicPr/>
          <p:nvPr/>
        </p:nvPicPr>
        <p:blipFill>
          <a:blip r:embed="rId4"/>
          <a:stretch/>
        </p:blipFill>
        <p:spPr>
          <a:xfrm>
            <a:off x="739800" y="3833640"/>
            <a:ext cx="359424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ENIAC - Electronic Numerical Integrator and Computer"/>
          <p:cNvPicPr/>
          <p:nvPr/>
        </p:nvPicPr>
        <p:blipFill>
          <a:blip r:embed="rId5"/>
          <a:stretch/>
        </p:blipFill>
        <p:spPr>
          <a:xfrm>
            <a:off x="5342040" y="3284640"/>
            <a:ext cx="3801960" cy="27860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6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омпьютеры С.А. Лебедев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6877080" y="0"/>
            <a:ext cx="1111320" cy="1368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170028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1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Э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000 электронных л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000 операций в секу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оич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2.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Э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000 электронных л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000 операций в секу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4427640" y="1557360"/>
            <a:ext cx="3686040" cy="2311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679920" cy="25416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коление (1955-1965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полупроводниковых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транзисто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0-200 тыс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пераций в секун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операционны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ы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языки программиро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Фортра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57)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Алго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95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едства хранения информации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гнитные барабаны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агнитные д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7816680" y="1062000"/>
            <a:ext cx="81936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I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коление (1955-1965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3-1955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BM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604, IBM 608, IBM 7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196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БЭСМ-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0 000 транзисто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0 000 ди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лн. операци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кун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мять – магнитна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нта, магнит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ли до 90-х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4427640" y="2349360"/>
            <a:ext cx="4392360" cy="37054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III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околение (1965-1980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нтегральных микросхемах</a:t>
            </a:r>
            <a:r>
              <a:rPr b="0" i="1" lang="ru-RU" sz="2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стродействие до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1 млн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пераций в секунд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перативная памяти –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сотни Кбай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операционные систе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памятью, устройствами, временем процессо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языки программирования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Бэйсик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965), </a:t>
            </a:r>
            <a:br>
              <a:rPr sz="2600"/>
            </a:b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Паскаль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1970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Н. Вир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ru-RU" sz="2600" spc="-1" strike="noStrike">
                <a:solidFill>
                  <a:srgbClr val="000099"/>
                </a:solidFill>
                <a:latin typeface="Arial"/>
              </a:rPr>
              <a:t>С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1972,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Д. Ритч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6380280" y="1028880"/>
            <a:ext cx="1538280" cy="936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675640" y="6453360"/>
            <a:ext cx="468360" cy="404640"/>
          </a:xfrm>
          <a:custGeom>
            <a:avLst/>
            <a:gdLst>
              <a:gd name="textAreaLeft" fmla="*/ 25920 w 468360"/>
              <a:gd name="textAreaRight" fmla="*/ 442440 w 468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4998" h="21600">
                <a:moveTo>
                  <a:pt x="0" y="0"/>
                </a:moveTo>
                <a:lnTo>
                  <a:pt x="24998" y="0"/>
                </a:lnTo>
                <a:lnTo>
                  <a:pt x="24998" y="21600"/>
                </a:lnTo>
                <a:lnTo>
                  <a:pt x="0" y="21600"/>
                </a:lnTo>
                <a:close/>
              </a:path>
              <a:path fill="lightenLess" w="24998" h="21600">
                <a:moveTo>
                  <a:pt x="0" y="0"/>
                </a:moveTo>
                <a:lnTo>
                  <a:pt x="24998" y="0"/>
                </a:lnTo>
                <a:lnTo>
                  <a:pt x="23598" y="1400"/>
                </a:lnTo>
                <a:lnTo>
                  <a:pt x="1400" y="1400"/>
                </a:lnTo>
                <a:close/>
              </a:path>
              <a:path fill="darken" w="24998" h="21600">
                <a:moveTo>
                  <a:pt x="24998" y="0"/>
                </a:moveTo>
                <a:lnTo>
                  <a:pt x="24998" y="21600"/>
                </a:lnTo>
                <a:lnTo>
                  <a:pt x="23598" y="20200"/>
                </a:lnTo>
                <a:lnTo>
                  <a:pt x="23598" y="1400"/>
                </a:lnTo>
                <a:close/>
              </a:path>
              <a:path fill="darkenLess" w="24998" h="21600">
                <a:moveTo>
                  <a:pt x="24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8" y="20200"/>
                </a:lnTo>
                <a:close/>
              </a:path>
              <a:path fill="lighten" w="24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98" h="21600">
                <a:moveTo>
                  <a:pt x="12499" y="3837"/>
                </a:moveTo>
                <a:lnTo>
                  <a:pt x="15075" y="6448"/>
                </a:ln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lnTo>
                  <a:pt x="19462" y="10800"/>
                </a:lnTo>
                <a:lnTo>
                  <a:pt x="17808" y="10800"/>
                </a:lnTo>
                <a:lnTo>
                  <a:pt x="17808" y="17989"/>
                </a:lnTo>
                <a:lnTo>
                  <a:pt x="7190" y="17989"/>
                </a:lnTo>
                <a:lnTo>
                  <a:pt x="7190" y="10800"/>
                </a:lnTo>
                <a:lnTo>
                  <a:pt x="5536" y="10800"/>
                </a:lnTo>
                <a:close/>
              </a:path>
              <a:path fill="darkenLess" w="24998" h="21600">
                <a:moveTo>
                  <a:pt x="15075" y="6448"/>
                </a:moveTo>
                <a:lnTo>
                  <a:pt x="15075" y="4707"/>
                </a:lnTo>
                <a:lnTo>
                  <a:pt x="16851" y="4707"/>
                </a:lnTo>
                <a:lnTo>
                  <a:pt x="16851" y="8224"/>
                </a:lnTo>
                <a:close/>
              </a:path>
              <a:path fill="darkenLess" w="24998" h="21600">
                <a:moveTo>
                  <a:pt x="11577" y="14299"/>
                </a:moveTo>
                <a:lnTo>
                  <a:pt x="13422" y="14299"/>
                </a:lnTo>
                <a:lnTo>
                  <a:pt x="13422" y="17989"/>
                </a:lnTo>
                <a:lnTo>
                  <a:pt x="17808" y="17989"/>
                </a:lnTo>
                <a:lnTo>
                  <a:pt x="17808" y="10800"/>
                </a:lnTo>
                <a:lnTo>
                  <a:pt x="7190" y="10800"/>
                </a:lnTo>
                <a:lnTo>
                  <a:pt x="7190" y="17989"/>
                </a:lnTo>
                <a:lnTo>
                  <a:pt x="11577" y="17989"/>
                </a:lnTo>
                <a:close/>
              </a:path>
            </a:pathLst>
          </a:custGeom>
          <a:solidFill>
            <a:srgbClr val="3e7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58:35Z</dcterms:created>
  <dc:creator>Admin</dc:creator>
  <dc:description/>
  <dc:language>en-US</dc:language>
  <cp:lastModifiedBy>Admin</cp:lastModifiedBy>
  <dcterms:modified xsi:type="dcterms:W3CDTF">2010-02-13T12:40:03Z</dcterms:modified>
  <cp:revision>6</cp:revision>
  <dc:subject/>
  <dc:title>Поколения компьютеров</dc:title>
</cp:coreProperties>
</file>